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A8A-6EF9-497C-A8B6-8EB4001C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9D8-AEF7-4C83-B352-51A9ED05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C43-739A-4003-8792-4AD164F6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8AF-F78F-4C27-9A75-8D5AC718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94F-4CF1-44F4-BBFA-8ABDAA9C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9D9-E642-49E3-8A20-B19E02E2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AE7-F601-4F6E-B705-E79DE218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E65-B42A-4212-BAAF-F22ECE82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2B0-3FE6-4BF3-AC82-BC400760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5C9-F6E3-44CF-AEA3-4C02C3ED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2C0-B0A2-4CC9-A6C1-EB7B1256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378-65C0-41E7-817A-8C49624E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A155-7D4F-4002-857E-9714CC5C7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КЛЮЧИ К ТЕСТ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012000" y="4724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916360" y="5300640"/>
                <a:ext cx="277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411280" y="4624560"/>
                <a:ext cx="1584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5" name=""/>
          <p:cNvGraphicFramePr/>
          <p:nvPr/>
        </p:nvGraphicFramePr>
        <p:xfrm>
          <a:off x="363600" y="1319040"/>
          <a:ext cx="8137440" cy="4767480"/>
        </p:xfrm>
        <a:graphic>
          <a:graphicData uri="http://schemas.openxmlformats.org/drawingml/2006/table">
            <a:tbl>
              <a:tblPr/>
              <a:tblGrid>
                <a:gridCol w="1368360"/>
                <a:gridCol w="2879640"/>
                <a:gridCol w="3889440"/>
              </a:tblGrid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443640" y="5300640"/>
                <a:ext cx="331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2:23:24Z</dcterms:created>
  <dc:creator>Кулик</dc:creator>
  <dc:description/>
  <dc:language>en-US</dc:language>
  <cp:lastModifiedBy>Кулик</cp:lastModifiedBy>
  <dcterms:modified xsi:type="dcterms:W3CDTF">2011-10-30T15:25:17Z</dcterms:modified>
  <cp:revision>4</cp:revision>
  <dc:subject/>
  <dc:title>КЛЮЧИ К ТЕСТУ</dc:title>
</cp:coreProperties>
</file>