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26C-07F7-4BBB-836E-98E7E185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950-4140-49C2-BEE1-2C78BFF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E22-473B-414E-A211-51188596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8DE-0137-4419-B4E8-F751B4E7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20D-D19E-418B-920E-F53A3B1C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1D7-D627-44E2-9F2E-789099B1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09E-B6D5-4D4A-BDDE-BAEC9448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693-CFF5-4CAB-BBF1-E96A07AD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E8E-CDCF-4434-B370-572DCD6F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A02-3A36-4FA0-B9A3-5E8443D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AE3-6C36-46BD-BC83-AE79392C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718-66B9-4612-995D-F6C230E8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3537-0FB0-4E42-88CA-38FC4E65A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ожно ли дробь      привести к знаменателю 42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робь        привели к знаменателю  33. Назовит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ый множител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ведите дробь         к знаменателю 24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ведите к общему знаменателю 30 дроби        и     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к наименьшему общему знаменателю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и       и        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98560" y="1413000"/>
                <a:ext cx="3477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236680" y="5084640"/>
                <a:ext cx="419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7236000" y="357336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203640" y="333360"/>
                <a:ext cx="26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419640" y="2852640"/>
                <a:ext cx="3078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03280" y="5084640"/>
                <a:ext cx="417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8101080" y="3573360"/>
                <a:ext cx="30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7:18:33Z</dcterms:created>
  <dc:creator>Женёк</dc:creator>
  <dc:description/>
  <dc:language>en-US</dc:language>
  <cp:lastModifiedBy>Lenovo User</cp:lastModifiedBy>
  <dcterms:modified xsi:type="dcterms:W3CDTF">2011-11-10T17:02:22Z</dcterms:modified>
  <cp:revision>5</cp:revision>
  <dc:subject/>
  <dc:title>Приведите дроби к наименьшему общему знаменателю</dc:title>
</cp:coreProperties>
</file>