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D649-BBAE-4B32-A00A-5C5A871C6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D012-88F3-4BF1-8BC9-119A56CC0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7774-C5C0-4858-9F9A-B0B3044CF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25B9-27A5-40A1-8197-63179E2BA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58DE-A193-42E8-BA15-B8F6BCD11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6160-81ED-4EEF-BC77-4ED56C40C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FA41-4A20-46DB-8044-782AF31ED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8133-A263-484F-8DFF-720E3DC09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E308-2EA9-40B3-B339-BA3D5B0E7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59B6-3F20-4FC0-9E91-095EEA09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B743-143D-4821-BB30-BFD266B7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7837-D17D-4E4F-BF6E-721B76F6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32859-39B3-42BB-8A81-442950B68E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стный счё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Найдите значения выраже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(0,7 + 3,2) =                                      - 0,7 – 3,2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( 4,7 – 3,5) =                                     - 4,7 + 3,5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( - 0,6 + 1,9) =                                     0,6 – 1,9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 Реактивный самолёт расходуе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литров горючего на 1000 км пу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Сколько литров горючего расходуется на 3000; 800; 500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илометров пут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Какой путь пролетит самолёт при расходе горючего 5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;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,1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литров?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3,9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1,2;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1,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4.89362E-006 L 0.18402 -0.4179 E">
                                      <p:cBhvr>
                                        <p:cTn id="6" dur="2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51619E-006 L 0.20364 -0.4246 E">
                                      <p:cBhvr>
                                        <p:cTn id="10" dur="20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7.40056E-008 L 0.21146 -0.42114 E">
                                      <p:cBhvr>
                                        <p:cTn id="14" dur="20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лгебраическая сумма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запись, состоящая из нескольких алгебраических выражений, соединенных знаками «+» или «-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 – 6 + 12 – 4 + 7- 13 = 8 + (-6) + 12 + (-4) + 7 + (-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Правила раскрытия скоб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Если к алгебраическому выражению прибавляется алгебраическая  сумма, заключенная в скобки, то скобки можно опустить, сохранив знак каждого слагаемого этой алгебраической суммы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а + (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b – c – d) = a + b – c – d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+(7-23+21) = 14+7-23+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Если из алгебраического выражения вычитается алгебраическая  сумма, заключенная в скобки, то скобки можно опустить, изменив знак каждого слагаемого этой алгебраической суммы на противоположный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а - (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b – c – d) = a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b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c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d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7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) = 1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1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авила заключения в скоб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1. Если перед скобкой  поставить знак «+», то знаки всех слагаемых, заключенных в скобки, сохраняю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а +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 – c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d = a +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 – c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d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+7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+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14+(7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+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Если перед скобкой поставить знак «-», то знаки всех слагаемых, заключенных в скобки, меняются на противополож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а –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– c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d = a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– (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c – d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+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1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7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+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2, №43, №44, №45, №46, №47 (нечетны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. з. §5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№44 (2, 4), №45 (2, 4), №46 (2, 4), №47 (2, 4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1T13:13:12Z</dcterms:created>
  <dc:creator>Кулик</dc:creator>
  <dc:description/>
  <dc:language>en-US</dc:language>
  <cp:lastModifiedBy>Кулик</cp:lastModifiedBy>
  <dcterms:modified xsi:type="dcterms:W3CDTF">2012-09-11T14:28:04Z</dcterms:modified>
  <cp:revision>3</cp:revision>
  <dc:subject/>
  <dc:title>Устный счёт</dc:title>
</cp:coreProperties>
</file>