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9.png" ContentType="image/png"/>
  <Override PartName="/ppt/media/image12.jpeg" ContentType="image/jpeg"/>
  <Override PartName="/ppt/media/image32.png" ContentType="image/png"/>
  <Override PartName="/ppt/media/image2.png" ContentType="image/png"/>
  <Override PartName="/ppt/media/image11.jpeg" ContentType="image/jpeg"/>
  <Override PartName="/ppt/media/image24.png" ContentType="image/png"/>
  <Override PartName="/ppt/media/image5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8.jpeg" ContentType="image/jpeg"/>
  <Override PartName="/ppt/media/image42.jpeg" ContentType="image/jpeg"/>
  <Override PartName="/ppt/media/image25.png" ContentType="image/png"/>
  <Override PartName="/ppt/media/image19.jpeg" ContentType="image/jpeg"/>
  <Override PartName="/ppt/media/image65.png" ContentType="image/png"/>
  <Override PartName="/ppt/media/image27.png" ContentType="image/png"/>
  <Override PartName="/ppt/media/image31.png" ContentType="image/png"/>
  <Override PartName="/ppt/media/image29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jpeg" ContentType="image/jpeg"/>
  <Override PartName="/ppt/media/image23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26.png" ContentType="image/png"/>
  <Override PartName="/ppt/media/image8.jpeg" ContentType="image/jpeg"/>
  <Override PartName="/ppt/media/image10.jpeg" ContentType="image/jpeg"/>
  <Override PartName="/ppt/media/image48.png" ContentType="image/png"/>
  <Override PartName="/ppt/media/image20.png" ContentType="image/png"/>
  <Override PartName="/ppt/media/image57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47.png" ContentType="image/png"/>
  <Override PartName="/ppt/media/image9.jpeg" ContentType="image/jpeg"/>
  <Override PartName="/ppt/media/image36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81CB-A827-4A75-8AED-3755E979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1B73-34AD-4F33-8C64-1D27F4FE8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0486-C233-42E2-80B9-48A15B19E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B623-780A-4DD6-9EEF-C24B72BA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CE57-ECCB-4650-8E82-4E09CD8E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570D-6234-4D5C-AA44-7DCC551F9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1B0-BABC-427F-8502-61643A14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DBF-45EC-4C70-B58E-6F51A43F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54E7-309F-4191-8638-57D5833CA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0BB4-96A1-432B-B415-2481F728C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0910-E0BF-4A84-9EFC-E6A0E811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748E-8180-4CA5-86F0-D09FB1D38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78C-72CF-47CA-A0D5-883F0382E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D999-678D-48F8-96F1-E1B179CE8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990-4877-471D-A960-6294E457B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2163-19B8-4710-A9C8-636CD1C5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119-3B98-4E22-8559-EDCE9D5CE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879C-C239-4237-940E-EC50531C8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AEA4-85CD-4287-BE53-545E49844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486-62B1-4451-AC81-ED5A60E3B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F48-48AA-46F2-9EC7-7C8E6ACB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A07-D63A-47FA-B4C2-1426AAB6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284-DF9F-4593-A26C-BD97E51E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5F4-CE4D-40E6-A7E5-9BCCB310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3E47-7F55-4D95-AC2E-C5ACEA5A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C0EE-6AA0-47F9-BC6E-2083778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35EB-EA76-4665-92E4-CCD78A06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0B5-0AB2-4194-927B-DA9F48C5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872A-7B61-4D61-91C4-CE2580DB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F14-CB92-4FFC-8B28-617B7D9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CE51-0CE5-4D46-A299-4455D94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9C7-BFB5-4CBB-A86F-D2F91971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2C68-853C-4651-A4C6-F5497A1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3344-717D-4A75-937D-214D559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DF41-CBB2-4EC6-818B-00857C1C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A0C-5C6B-4E5F-9B89-FBBC1814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DC20-4C74-473E-A210-3568F2DA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398-E632-4B26-9B88-9F9C211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E3E-F1AE-48D0-BEFA-5ADBB10B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A6C-D4AC-43BE-969E-D21B4C59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AD5-1F13-4519-9D25-8827DAA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FEC-4508-4740-9142-D113D2C3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FF3-90E7-4F64-BB13-B1CCDF1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D9C-EA40-43E7-BCA1-6A5ECEB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6872040"/>
              <a:gd name="textAreaBottom" fmla="*/ 6872400 h 6872040"/>
            </a:gdLst>
            <a:ahLst/>
            <a:rect l="textAreaLeft" t="textAreaTop" r="textAreaRight" b="textAreaBottom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254-2048-440E-BC25-852BEA01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>
              <a:gd name="textAreaLeft" fmla="*/ 0 w 5105520"/>
              <a:gd name="textAreaRight" fmla="*/ 5105520 w 510552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6872040"/>
              <a:gd name="textAreaBottom" fmla="*/ 6872400 h 6872040"/>
            </a:gdLst>
            <a:ahLst/>
            <a:rect l="textAreaLeft" t="textAreaTop" r="textAreaRight" b="textAreaBottom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>
              <a:gd name="textAreaLeft" fmla="*/ 0 w 5105520"/>
              <a:gd name="textAreaRight" fmla="*/ 5105520 w 510552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81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>
              <a:gd name="textAreaLeft" fmla="*/ 0 w 4743360"/>
              <a:gd name="textAreaRight" fmla="*/ 4743720 w 4743360"/>
              <a:gd name="textAreaTop" fmla="*/ 0 h 5048280"/>
              <a:gd name="textAreaBottom" fmla="*/ 5048640 h 5048280"/>
            </a:gdLst>
            <a:ahLst/>
            <a:rect l="textAreaLeft" t="textAreaTop" r="textAreaRight" b="textAreaBottom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2409840"/>
              <a:gd name="textAreaBottom" fmla="*/ 2410200 h 2409840"/>
            </a:gdLst>
            <a:ahLst/>
            <a:rect l="textAreaLeft" t="textAreaTop" r="textAreaRight" b="textAreaBottom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>
              <a:gd name="textAreaLeft" fmla="*/ 0 w 6583320"/>
              <a:gd name="textAreaRight" fmla="*/ 6583680 w 6583320"/>
              <a:gd name="textAreaTop" fmla="*/ 0 h 7267680"/>
              <a:gd name="textAreaBottom" fmla="*/ 7268040 h 726768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>
              <a:gd name="textAreaLeft" fmla="*/ 0 w 6372360"/>
              <a:gd name="textAreaRight" fmla="*/ 6372720 w 6372360"/>
              <a:gd name="textAreaTop" fmla="*/ 0 h 7072200"/>
              <a:gd name="textAreaBottom" fmla="*/ 7072560 h 707220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118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308240"/>
                <a:gd name="textAreaBottom" fmla="*/ 1308600 h 1308240"/>
              </a:gdLst>
              <a:ahLst/>
              <a:rect l="textAreaLeft" t="textAreaTop" r="textAreaRight" b="textAreaBottom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3" descr="water"/>
          <p:cNvPicPr/>
          <p:nvPr/>
        </p:nvPicPr>
        <p:blipFill>
          <a:blip r:embed="rId4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E542-A12F-4132-A673-6E9789D4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image" Target="../media/image57.png"/><Relationship Id="rId16" Type="http://schemas.openxmlformats.org/officeDocument/2006/relationships/image" Target="../media/image58.png"/><Relationship Id="rId17" Type="http://schemas.openxmlformats.org/officeDocument/2006/relationships/image" Target="../media/image59.png"/><Relationship Id="rId18" Type="http://schemas.openxmlformats.org/officeDocument/2006/relationships/image" Target="../media/image58.png"/><Relationship Id="rId19" Type="http://schemas.openxmlformats.org/officeDocument/2006/relationships/image" Target="../media/image60.png"/><Relationship Id="rId20" Type="http://schemas.openxmlformats.org/officeDocument/2006/relationships/image" Target="../media/image61.png"/><Relationship Id="rId21" Type="http://schemas.openxmlformats.org/officeDocument/2006/relationships/image" Target="../media/image62.png"/><Relationship Id="rId22" Type="http://schemas.openxmlformats.org/officeDocument/2006/relationships/image" Target="../media/image63.png"/><Relationship Id="rId23" Type="http://schemas.openxmlformats.org/officeDocument/2006/relationships/image" Target="../media/image62.png"/><Relationship Id="rId24" Type="http://schemas.openxmlformats.org/officeDocument/2006/relationships/image" Target="../media/image64.png"/><Relationship Id="rId25" Type="http://schemas.openxmlformats.org/officeDocument/2006/relationships/image" Target="../media/image63.png"/><Relationship Id="rId26" Type="http://schemas.openxmlformats.org/officeDocument/2006/relationships/image" Target="../media/image65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324000" y="1674720"/>
            <a:ext cx="8064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«Урок </a:t>
            </a:r>
            <a:r>
              <a:rPr b="1" i="1" lang="en-US" sz="4400" spc="-1" strike="noStrike">
                <a:solidFill>
                  <a:srgbClr val="990000"/>
                </a:solidFill>
                <a:latin typeface="Arial"/>
              </a:rPr>
              <a:t>XXI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ве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традиции и новатор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785880" y="2143080"/>
            <a:ext cx="792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Интересные темы нетрадиционных уро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2" descr="C:\Users\школа\Desktop\Фото0259.jpg"/>
          <p:cNvPicPr/>
          <p:nvPr/>
        </p:nvPicPr>
        <p:blipFill>
          <a:blip r:embed="rId1"/>
          <a:stretch/>
        </p:blipFill>
        <p:spPr>
          <a:xfrm>
            <a:off x="250920" y="189000"/>
            <a:ext cx="2752560" cy="20620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" descr="C:\Users\школа\Desktop\Фото0262.jpg"/>
          <p:cNvPicPr/>
          <p:nvPr/>
        </p:nvPicPr>
        <p:blipFill>
          <a:blip r:embed="rId2"/>
          <a:stretch/>
        </p:blipFill>
        <p:spPr>
          <a:xfrm>
            <a:off x="5219640" y="3860640"/>
            <a:ext cx="3618000" cy="27115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C:\Users\школа\Desktop\разное\фото 2013 год\SAM_0141.JPG"/>
          <p:cNvPicPr/>
          <p:nvPr/>
        </p:nvPicPr>
        <p:blipFill>
          <a:blip r:embed="rId3"/>
          <a:stretch/>
        </p:blipFill>
        <p:spPr>
          <a:xfrm>
            <a:off x="250920" y="3645000"/>
            <a:ext cx="3925800" cy="29448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C:\Users\школа\Desktop\разное\фото 2013 год\Фото0121.jpg"/>
          <p:cNvPicPr/>
          <p:nvPr/>
        </p:nvPicPr>
        <p:blipFill>
          <a:blip r:embed="rId4"/>
          <a:stretch/>
        </p:blipFill>
        <p:spPr>
          <a:xfrm>
            <a:off x="3132000" y="404640"/>
            <a:ext cx="2087640" cy="1893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E:\ОТКРЫТЫЙ УРОК\открытый урок ФОТО\DSC01879.JPG"/>
          <p:cNvPicPr/>
          <p:nvPr/>
        </p:nvPicPr>
        <p:blipFill>
          <a:blip r:embed="rId5"/>
          <a:stretch/>
        </p:blipFill>
        <p:spPr>
          <a:xfrm>
            <a:off x="6012000" y="243000"/>
            <a:ext cx="2808000" cy="210636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7" descr="C:\Users\Галина\Pictures\2010-2011 учебный год\2010-12-01 поле чудес нач шк\поле чудес нач шк 006.JPG"/>
          <p:cNvPicPr/>
          <p:nvPr/>
        </p:nvPicPr>
        <p:blipFill>
          <a:blip r:embed="rId6"/>
          <a:stretch/>
        </p:blipFill>
        <p:spPr>
          <a:xfrm>
            <a:off x="3564000" y="3789360"/>
            <a:ext cx="2022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8" descr="DSC00623"/>
          <p:cNvPicPr/>
          <p:nvPr/>
        </p:nvPicPr>
        <p:blipFill>
          <a:blip r:embed="rId7"/>
          <a:stretch/>
        </p:blipFill>
        <p:spPr>
          <a:xfrm>
            <a:off x="4140360" y="5516640"/>
            <a:ext cx="1126800" cy="10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719280" y="2225520"/>
            <a:ext cx="7772400" cy="13654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2" descr="C:\Users\школа\Desktop\Фото -0056.jpg"/>
          <p:cNvPicPr/>
          <p:nvPr/>
        </p:nvPicPr>
        <p:blipFill>
          <a:blip r:embed="rId2"/>
          <a:stretch/>
        </p:blipFill>
        <p:spPr>
          <a:xfrm>
            <a:off x="324000" y="0"/>
            <a:ext cx="2846160" cy="2133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3" descr="C:\Users\школа\Desktop\Фото0120.jpg"/>
          <p:cNvPicPr/>
          <p:nvPr/>
        </p:nvPicPr>
        <p:blipFill>
          <a:blip r:embed="rId3"/>
          <a:stretch/>
        </p:blipFill>
        <p:spPr>
          <a:xfrm>
            <a:off x="6516720" y="4437000"/>
            <a:ext cx="2405160" cy="19195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Users\школа\Desktop\Фото -0055.jpg"/>
          <p:cNvPicPr/>
          <p:nvPr/>
        </p:nvPicPr>
        <p:blipFill>
          <a:blip r:embed="rId4"/>
          <a:stretch/>
        </p:blipFill>
        <p:spPr>
          <a:xfrm>
            <a:off x="0" y="4361040"/>
            <a:ext cx="3330720" cy="24969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C:\Users\школа\Desktop\Фото0118.jpg"/>
          <p:cNvPicPr/>
          <p:nvPr/>
        </p:nvPicPr>
        <p:blipFill>
          <a:blip r:embed="rId5"/>
          <a:stretch/>
        </p:blipFill>
        <p:spPr>
          <a:xfrm>
            <a:off x="6300720" y="40464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C:\Users\школа\Desktop\игры и мероприятия 014.JPG"/>
          <p:cNvPicPr/>
          <p:nvPr/>
        </p:nvPicPr>
        <p:blipFill>
          <a:blip r:embed="rId6"/>
          <a:stretch/>
        </p:blipFill>
        <p:spPr>
          <a:xfrm>
            <a:off x="3419640" y="189000"/>
            <a:ext cx="259236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C:\Users\школа\Desktop\DSC01913.JPG"/>
          <p:cNvPicPr/>
          <p:nvPr/>
        </p:nvPicPr>
        <p:blipFill>
          <a:blip r:embed="rId7"/>
          <a:stretch/>
        </p:blipFill>
        <p:spPr>
          <a:xfrm>
            <a:off x="3851280" y="4365720"/>
            <a:ext cx="2395440" cy="21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85840" y="285840"/>
            <a:ext cx="6032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ок – это зеркало общей и педагогической культуры учителя, мерило его интеллектуального богатства, показатель его кругозора, эруди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Прямоугольник 4" descr=""/>
          <p:cNvPicPr/>
          <p:nvPr/>
        </p:nvPicPr>
        <p:blipFill>
          <a:blip r:embed="rId1"/>
          <a:stretch/>
        </p:blipFill>
        <p:spPr>
          <a:xfrm>
            <a:off x="4919760" y="4595760"/>
            <a:ext cx="4290840" cy="903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168960" y="676440"/>
            <a:ext cx="3017880" cy="386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071800" y="785520"/>
            <a:ext cx="6696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Человека невозможно ничему обучить, можно только помочь, открыть это в себе самом</a:t>
            </a:r>
            <a:r>
              <a:rPr b="0" lang="ru-RU" sz="2400" spc="-1" strike="noStrike">
                <a:solidFill>
                  <a:srgbClr val="0070c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</a:rPr>
              <a:t>Галилео Гал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8"/>
          <p:cNvGrpSpPr/>
          <p:nvPr/>
        </p:nvGrpSpPr>
        <p:grpSpPr>
          <a:xfrm>
            <a:off x="-181080" y="2712960"/>
            <a:ext cx="3456720" cy="3096720"/>
            <a:chOff x="-181080" y="2712960"/>
            <a:chExt cx="3456720" cy="3096720"/>
          </a:xfrm>
        </p:grpSpPr>
        <p:sp>
          <p:nvSpPr>
            <p:cNvPr id="205" name="Freeform 19"/>
            <p:cNvSpPr/>
            <p:nvPr/>
          </p:nvSpPr>
          <p:spPr>
            <a:xfrm flipH="1">
              <a:off x="1364400" y="4880520"/>
              <a:ext cx="1626840" cy="892440"/>
            </a:xfrm>
            <a:custGeom>
              <a:avLst/>
              <a:gdLst>
                <a:gd name="textAreaLeft" fmla="*/ -360 w 1626840"/>
                <a:gd name="textAreaRight" fmla="*/ 1626840 w 162684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411120" y="4659120"/>
              <a:ext cx="1706400" cy="8632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863280"/>
                <a:gd name="textAreaBottom" fmla="*/ 863640 h 86328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-181080" y="5078520"/>
              <a:ext cx="1447560" cy="73116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2"/>
            <p:cNvGrpSpPr/>
            <p:nvPr/>
          </p:nvGrpSpPr>
          <p:grpSpPr>
            <a:xfrm>
              <a:off x="732240" y="2712960"/>
              <a:ext cx="2543400" cy="3078000"/>
              <a:chOff x="732240" y="2712960"/>
              <a:chExt cx="2543400" cy="3078000"/>
            </a:xfrm>
          </p:grpSpPr>
          <p:sp>
            <p:nvSpPr>
              <p:cNvPr id="209" name="Freeform 23"/>
              <p:cNvSpPr/>
              <p:nvPr/>
            </p:nvSpPr>
            <p:spPr>
              <a:xfrm flipH="1">
                <a:off x="2459160" y="3543840"/>
                <a:ext cx="816120" cy="2200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2200680"/>
                  <a:gd name="textAreaBottom" fmla="*/ 2201040 h 22006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9c9c"/>
                  </a:gs>
                  <a:gs pos="100000">
                    <a:srgbClr val="eaeaea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 flipH="1">
                <a:off x="1461960" y="2712960"/>
                <a:ext cx="1027440" cy="2769120"/>
              </a:xfrm>
              <a:custGeom>
                <a:avLst/>
                <a:gdLst>
                  <a:gd name="textAreaLeft" fmla="*/ 360 w 1027440"/>
                  <a:gd name="textAreaRight" fmla="*/ 1028160 w 1027440"/>
                  <a:gd name="textAreaTop" fmla="*/ 0 h 2769120"/>
                  <a:gd name="textAreaBottom" fmla="*/ 2769480 h 27691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4a4a4"/>
                  </a:gs>
                  <a:gs pos="100000">
                    <a:srgbClr val="eaeaea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 flipH="1">
                <a:off x="732240" y="3589560"/>
                <a:ext cx="816480" cy="2201400"/>
              </a:xfrm>
              <a:custGeom>
                <a:avLst/>
                <a:gdLst>
                  <a:gd name="textAreaLeft" fmla="*/ 360 w 816480"/>
                  <a:gd name="textAreaRight" fmla="*/ 817200 w 816480"/>
                  <a:gd name="textAreaTop" fmla="*/ 0 h 2201400"/>
                  <a:gd name="textAreaBottom" fmla="*/ 2201760 h 220140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9c9c"/>
                  </a:gs>
                  <a:gs pos="100000">
                    <a:srgbClr val="eaeaea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Прямоугольник 13" descr=""/>
          <p:cNvPicPr/>
          <p:nvPr/>
        </p:nvPicPr>
        <p:blipFill>
          <a:blip r:embed="rId1"/>
          <a:stretch/>
        </p:blipFill>
        <p:spPr>
          <a:xfrm>
            <a:off x="-66600" y="5529240"/>
            <a:ext cx="9271080" cy="10731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2" descr=""/>
          <p:cNvPicPr/>
          <p:nvPr/>
        </p:nvPicPr>
        <p:blipFill>
          <a:blip r:embed="rId2"/>
          <a:stretch/>
        </p:blipFill>
        <p:spPr>
          <a:xfrm>
            <a:off x="2944800" y="3676680"/>
            <a:ext cx="5784840" cy="11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14200" y="428760"/>
            <a:ext cx="720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3171e"/>
                </a:solidFill>
                <a:latin typeface="Arial"/>
              </a:rPr>
              <a:t>Как научить уч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727200" y="1413000"/>
            <a:ext cx="2084040" cy="889920"/>
            <a:chOff x="727200" y="1413000"/>
            <a:chExt cx="2084040" cy="889920"/>
          </a:xfrm>
        </p:grpSpPr>
        <p:grpSp>
          <p:nvGrpSpPr>
            <p:cNvPr id="216" name="Rectangle 5"/>
            <p:cNvGrpSpPr/>
            <p:nvPr/>
          </p:nvGrpSpPr>
          <p:grpSpPr>
            <a:xfrm>
              <a:off x="727200" y="1413000"/>
              <a:ext cx="1752480" cy="887400"/>
              <a:chOff x="727200" y="1413000"/>
              <a:chExt cx="1752480" cy="887400"/>
            </a:xfrm>
          </p:grpSpPr>
          <p:pic>
            <p:nvPicPr>
              <p:cNvPr id="217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27200" y="1413000"/>
                <a:ext cx="175248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40"/>
              <p:cNvSpPr/>
              <p:nvPr/>
            </p:nvSpPr>
            <p:spPr>
              <a:xfrm>
                <a:off x="787680" y="1444320"/>
                <a:ext cx="16380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2421360" y="1841760"/>
              <a:ext cx="38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Text Box 12"/>
            <p:cNvGrpSpPr/>
            <p:nvPr/>
          </p:nvGrpSpPr>
          <p:grpSpPr>
            <a:xfrm>
              <a:off x="886680" y="1430640"/>
              <a:ext cx="1568520" cy="872280"/>
              <a:chOff x="886680" y="1430640"/>
              <a:chExt cx="1568520" cy="872280"/>
            </a:xfrm>
          </p:grpSpPr>
          <p:pic>
            <p:nvPicPr>
              <p:cNvPr id="221" name="Text Box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86680" y="1430640"/>
                <a:ext cx="1568520" cy="85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44"/>
              <p:cNvSpPr/>
              <p:nvPr/>
            </p:nvSpPr>
            <p:spPr>
              <a:xfrm>
                <a:off x="954720" y="1478880"/>
                <a:ext cx="1344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ервичный опыт  и мотивац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26"/>
          <p:cNvGrpSpPr/>
          <p:nvPr/>
        </p:nvGrpSpPr>
        <p:grpSpPr>
          <a:xfrm>
            <a:off x="2833560" y="1413000"/>
            <a:ext cx="1938240" cy="993240"/>
            <a:chOff x="2833560" y="1413000"/>
            <a:chExt cx="1938240" cy="993240"/>
          </a:xfrm>
        </p:grpSpPr>
        <p:grpSp>
          <p:nvGrpSpPr>
            <p:cNvPr id="224" name="Rectangle 7"/>
            <p:cNvGrpSpPr/>
            <p:nvPr/>
          </p:nvGrpSpPr>
          <p:grpSpPr>
            <a:xfrm>
              <a:off x="2833560" y="1413000"/>
              <a:ext cx="1632960" cy="887400"/>
              <a:chOff x="2833560" y="1413000"/>
              <a:chExt cx="1632960" cy="887400"/>
            </a:xfrm>
          </p:grpSpPr>
          <p:pic>
            <p:nvPicPr>
              <p:cNvPr id="225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833560" y="1413000"/>
                <a:ext cx="163296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33"/>
              <p:cNvSpPr/>
              <p:nvPr/>
            </p:nvSpPr>
            <p:spPr>
              <a:xfrm>
                <a:off x="2891520" y="1444320"/>
                <a:ext cx="152352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Line 10"/>
            <p:cNvSpPr/>
            <p:nvPr/>
          </p:nvSpPr>
          <p:spPr>
            <a:xfrm>
              <a:off x="4409280" y="1841760"/>
              <a:ext cx="3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Text Box 13"/>
            <p:cNvGrpSpPr/>
            <p:nvPr/>
          </p:nvGrpSpPr>
          <p:grpSpPr>
            <a:xfrm>
              <a:off x="2914920" y="1533960"/>
              <a:ext cx="1543320" cy="872280"/>
              <a:chOff x="2914920" y="1533960"/>
              <a:chExt cx="1543320" cy="872280"/>
            </a:xfrm>
          </p:grpSpPr>
          <p:pic>
            <p:nvPicPr>
              <p:cNvPr id="229" name="Text Box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4920" y="1533960"/>
                <a:ext cx="154332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7"/>
              <p:cNvSpPr/>
              <p:nvPr/>
            </p:nvSpPr>
            <p:spPr>
              <a:xfrm>
                <a:off x="3000240" y="1582200"/>
                <a:ext cx="1303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Знание, как учитьс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27"/>
          <p:cNvGrpSpPr/>
          <p:nvPr/>
        </p:nvGrpSpPr>
        <p:grpSpPr>
          <a:xfrm>
            <a:off x="4788000" y="1413000"/>
            <a:ext cx="1937880" cy="887400"/>
            <a:chOff x="4788000" y="1413000"/>
            <a:chExt cx="1937880" cy="887400"/>
          </a:xfrm>
        </p:grpSpPr>
        <p:grpSp>
          <p:nvGrpSpPr>
            <p:cNvPr id="232" name="Rectangle 6"/>
            <p:cNvGrpSpPr/>
            <p:nvPr/>
          </p:nvGrpSpPr>
          <p:grpSpPr>
            <a:xfrm>
              <a:off x="4788000" y="1413000"/>
              <a:ext cx="1633320" cy="887400"/>
              <a:chOff x="4788000" y="1413000"/>
              <a:chExt cx="1633320" cy="887400"/>
            </a:xfrm>
          </p:grpSpPr>
          <p:pic>
            <p:nvPicPr>
              <p:cNvPr id="233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88000" y="1413000"/>
                <a:ext cx="163332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26"/>
              <p:cNvSpPr/>
              <p:nvPr/>
            </p:nvSpPr>
            <p:spPr>
              <a:xfrm>
                <a:off x="4849200" y="1444320"/>
                <a:ext cx="151812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Line 11"/>
            <p:cNvSpPr/>
            <p:nvPr/>
          </p:nvSpPr>
          <p:spPr>
            <a:xfrm>
              <a:off x="6364440" y="1840320"/>
              <a:ext cx="3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Text Box 14"/>
            <p:cNvGrpSpPr/>
            <p:nvPr/>
          </p:nvGrpSpPr>
          <p:grpSpPr>
            <a:xfrm>
              <a:off x="4894920" y="1533960"/>
              <a:ext cx="1415160" cy="631800"/>
              <a:chOff x="4894920" y="1533960"/>
              <a:chExt cx="1415160" cy="631800"/>
            </a:xfrm>
          </p:grpSpPr>
          <p:pic>
            <p:nvPicPr>
              <p:cNvPr id="237" name="Text Box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4894920" y="1533960"/>
                <a:ext cx="141516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30"/>
              <p:cNvSpPr/>
              <p:nvPr/>
            </p:nvSpPr>
            <p:spPr>
              <a:xfrm>
                <a:off x="4954680" y="1582200"/>
                <a:ext cx="1299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Умение учитьс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28"/>
          <p:cNvGrpSpPr/>
          <p:nvPr/>
        </p:nvGrpSpPr>
        <p:grpSpPr>
          <a:xfrm>
            <a:off x="6732720" y="1413000"/>
            <a:ext cx="1569960" cy="887400"/>
            <a:chOff x="6732720" y="1413000"/>
            <a:chExt cx="1569960" cy="887400"/>
          </a:xfrm>
        </p:grpSpPr>
        <p:grpSp>
          <p:nvGrpSpPr>
            <p:cNvPr id="240" name="Rectangle 8"/>
            <p:cNvGrpSpPr/>
            <p:nvPr/>
          </p:nvGrpSpPr>
          <p:grpSpPr>
            <a:xfrm>
              <a:off x="6732720" y="1413000"/>
              <a:ext cx="1569960" cy="887400"/>
              <a:chOff x="6732720" y="1413000"/>
              <a:chExt cx="1569960" cy="887400"/>
            </a:xfrm>
          </p:grpSpPr>
          <p:pic>
            <p:nvPicPr>
              <p:cNvPr id="241" name="Rectangl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6732720" y="1413000"/>
                <a:ext cx="1569960" cy="8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20"/>
              <p:cNvSpPr/>
              <p:nvPr/>
            </p:nvSpPr>
            <p:spPr>
              <a:xfrm>
                <a:off x="6791760" y="1444320"/>
                <a:ext cx="14598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Text Box 15"/>
            <p:cNvGrpSpPr/>
            <p:nvPr/>
          </p:nvGrpSpPr>
          <p:grpSpPr>
            <a:xfrm>
              <a:off x="6841440" y="1457640"/>
              <a:ext cx="1353960" cy="758520"/>
              <a:chOff x="6841440" y="1457640"/>
              <a:chExt cx="1353960" cy="758520"/>
            </a:xfrm>
          </p:grpSpPr>
          <p:pic>
            <p:nvPicPr>
              <p:cNvPr id="244" name="Text Box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841440" y="1457640"/>
                <a:ext cx="1353960" cy="7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Text Box 23"/>
              <p:cNvSpPr/>
              <p:nvPr/>
            </p:nvSpPr>
            <p:spPr>
              <a:xfrm>
                <a:off x="6896880" y="1508400"/>
                <a:ext cx="12502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Контрол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48"/>
          <p:cNvGrpSpPr/>
          <p:nvPr/>
        </p:nvGrpSpPr>
        <p:grpSpPr>
          <a:xfrm>
            <a:off x="4344840" y="2290680"/>
            <a:ext cx="3682800" cy="1866600"/>
            <a:chOff x="4344840" y="2290680"/>
            <a:chExt cx="3682800" cy="1866600"/>
          </a:xfrm>
        </p:grpSpPr>
        <p:grpSp>
          <p:nvGrpSpPr>
            <p:cNvPr id="247" name="Text Box 17"/>
            <p:cNvGrpSpPr/>
            <p:nvPr/>
          </p:nvGrpSpPr>
          <p:grpSpPr>
            <a:xfrm>
              <a:off x="4973040" y="2792880"/>
              <a:ext cx="3054600" cy="1364400"/>
              <a:chOff x="4973040" y="2792880"/>
              <a:chExt cx="3054600" cy="1364400"/>
            </a:xfrm>
          </p:grpSpPr>
          <p:pic>
            <p:nvPicPr>
              <p:cNvPr id="248" name="Text Box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4973040" y="2792880"/>
                <a:ext cx="305460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15"/>
              <p:cNvSpPr/>
              <p:nvPr/>
            </p:nvSpPr>
            <p:spPr>
              <a:xfrm>
                <a:off x="5068440" y="2829240"/>
                <a:ext cx="2846880" cy="13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Надпредметный кур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Line 19"/>
            <p:cNvSpPr/>
            <p:nvPr/>
          </p:nvSpPr>
          <p:spPr>
            <a:xfrm>
              <a:off x="4344840" y="2299680"/>
              <a:ext cx="837000" cy="52488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 flipH="1">
              <a:off x="5994360" y="2290680"/>
              <a:ext cx="837000" cy="525240"/>
            </a:xfrm>
            <a:prstGeom prst="line">
              <a:avLst/>
            </a:prstGeom>
            <a:ln w="284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47"/>
          <p:cNvGrpSpPr/>
          <p:nvPr/>
        </p:nvGrpSpPr>
        <p:grpSpPr>
          <a:xfrm>
            <a:off x="1116000" y="2293920"/>
            <a:ext cx="3933000" cy="1553760"/>
            <a:chOff x="1116000" y="2293920"/>
            <a:chExt cx="3933000" cy="1553760"/>
          </a:xfrm>
        </p:grpSpPr>
        <p:grpSp>
          <p:nvGrpSpPr>
            <p:cNvPr id="253" name="Text Box 16"/>
            <p:cNvGrpSpPr/>
            <p:nvPr/>
          </p:nvGrpSpPr>
          <p:grpSpPr>
            <a:xfrm>
              <a:off x="1116000" y="2757960"/>
              <a:ext cx="3372480" cy="1089720"/>
              <a:chOff x="1116000" y="2757960"/>
              <a:chExt cx="3372480" cy="1089720"/>
            </a:xfrm>
          </p:grpSpPr>
          <p:pic>
            <p:nvPicPr>
              <p:cNvPr id="254" name="Text Box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16000" y="2757960"/>
                <a:ext cx="33724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 Box 10"/>
              <p:cNvSpPr/>
              <p:nvPr/>
            </p:nvSpPr>
            <p:spPr>
              <a:xfrm>
                <a:off x="1176840" y="2817000"/>
                <a:ext cx="326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Уроки по предметам,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Arial"/>
                  </a:rPr>
                  <a:t>на которых учащиеся включены в У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Line 18"/>
            <p:cNvSpPr/>
            <p:nvPr/>
          </p:nvSpPr>
          <p:spPr>
            <a:xfrm>
              <a:off x="2523960" y="2293920"/>
              <a:ext cx="849960" cy="52632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3"/>
            <p:cNvSpPr/>
            <p:nvPr/>
          </p:nvSpPr>
          <p:spPr>
            <a:xfrm flipH="1">
              <a:off x="4199040" y="2295000"/>
              <a:ext cx="849960" cy="52668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етодические требования к уроку ХХ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века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11280" y="620640"/>
          <a:ext cx="7993080" cy="5564160"/>
        </p:xfrm>
        <a:graphic>
          <a:graphicData uri="http://schemas.openxmlformats.org/drawingml/2006/table">
            <a:tbl>
              <a:tblPr/>
              <a:tblGrid>
                <a:gridCol w="576000"/>
                <a:gridCol w="4105440"/>
                <a:gridCol w="331164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ки уро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радиционной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 урока Х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етодических разраб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зработка поурочных планов, проектов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поставление творчества и программно-методическ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ое  творческое (личностное) выполнение требований к ур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блонная структур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основанн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бор тип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авданное стремление к игровым формам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игровых форм для лучшего выполнения целей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знания личности школьника; уроки-близнецы в разных класса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основанность дифференциации в обуч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условный учет обученности, обучаемости, особенностей, интересов и склонностей учащихся разных возрастов и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 подход к названию тем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кроме темы ещё и так называемого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н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рока в виде яркого афоризма, поговорки, эмоционально выражающем суть главной иде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79280" y="333360"/>
          <a:ext cx="8569440" cy="5978520"/>
        </p:xfrm>
        <a:graphic>
          <a:graphicData uri="http://schemas.openxmlformats.org/drawingml/2006/table">
            <a:tbl>
              <a:tblPr/>
              <a:tblGrid>
                <a:gridCol w="360360"/>
                <a:gridCol w="4095720"/>
                <a:gridCol w="4113360"/>
              </a:tblGrid>
              <a:tr h="91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ование возможности воспитания в процессе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о спланированная, продуманная деятельность учителя по обеспечению воспитательной функц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е планирование целей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развития образовательного   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саморазвития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три варианта формулирования и использования целей уро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учитель не предъявляет, но делает всё, чтобы они достиг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сообщаются детям (т.е. ребёнок не субъект целеполагания, но субъект целесуществован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ученик формулирует сам по заданной т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груженность урока материалом,  отношение к ребёнку, как к безразмерному  сосуду (чем больше, тем лучш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еление главного,  существенного  материала и  его отработка  на уро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выделения главн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сом, цветом, графическими средствами, использование опорных конспектов, табли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4533-6917-4DCD-9EC0-6118EDF7D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632720" cy="81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зменение представления учителя    о современном уроке</a:t>
            </a:r>
            <a:endParaRPr b="1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708360" y="1484280"/>
            <a:ext cx="543564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ченик - субъект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708360" y="1989000"/>
            <a:ext cx="5435640" cy="935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азнообразие источников знан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лово учителя; самостоятельное наблюд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учебные пособия; игруш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риборы и приспособ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3708360" y="3068640"/>
            <a:ext cx="5435640" cy="906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уктура урока  динамична, присут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целый набор разнообразных действий и опера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бъединенных в целесообразную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0" y="4149720"/>
            <a:ext cx="9144000" cy="533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Учитель поддерживает инициативу ученика в нужном направлении и обеспечив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риоритет его деятельности по отношению к собств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Критерии, по которым учитель  оценивает уче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пределены заранее и разделяются  обучающими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0" y="4869000"/>
            <a:ext cx="9144000" cy="533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место цели урока на передний план выходит цель индивидуальной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коллективной деятельности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324000" y="1490760"/>
            <a:ext cx="8424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- сторонник управления качеством, основанного на вере в людей и их хорошие качества... Если руководитель не доверяет своим подчинённым и осуществляет строгий контроль и частые проверки, он не может быть хорошим руководителем. Его управление основано на убеждении, что люди порочны по своей природе, такая система попросту не способна функцион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икава Ка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повседневного совершенствования урока, осуществляемого благодаря вдумчивому анализу руководителей, зависит культура всего педагогического процесса в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итивизм руководства- это прежде всего результат того, что директор не знает, что делается на уроках, в каком направлений развивается творческое мастерство учителя. Да и есть ли оно вообще в школе, это мастер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095480" y="568440"/>
            <a:ext cx="153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166760" y="65160"/>
            <a:ext cx="196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736560" y="784080"/>
            <a:ext cx="261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06480" y="797040"/>
            <a:ext cx="2975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щ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6804000" y="2879640"/>
            <a:ext cx="201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-школьны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877080" y="5300640"/>
            <a:ext cx="1941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инар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930480" y="5300640"/>
            <a:ext cx="211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32280" y="5300640"/>
            <a:ext cx="2712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254880" y="2808360"/>
            <a:ext cx="2236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925000" y="265896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3635280" y="907920"/>
            <a:ext cx="1513080" cy="486000"/>
          </a:xfrm>
          <a:custGeom>
            <a:avLst/>
            <a:gdLst>
              <a:gd name="textAreaLeft" fmla="*/ 189000 w 1513080"/>
              <a:gd name="textAreaRight" fmla="*/ 1324080 w 151308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flipH="1">
            <a:off x="3131280" y="5391000"/>
            <a:ext cx="760680" cy="486000"/>
          </a:xfrm>
          <a:custGeom>
            <a:avLst/>
            <a:gdLst>
              <a:gd name="textAreaLeft" fmla="*/ 73440 w 760680"/>
              <a:gd name="textAreaRight" fmla="*/ 687240 w 760680"/>
              <a:gd name="textAreaTop" fmla="*/ 160200 h 486000"/>
              <a:gd name="textAreaBottom" fmla="*/ 325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7129"/>
                </a:moveTo>
                <a:lnTo>
                  <a:pt x="15467" y="7129"/>
                </a:lnTo>
                <a:lnTo>
                  <a:pt x="15467" y="0"/>
                </a:lnTo>
                <a:lnTo>
                  <a:pt x="21600" y="10800"/>
                </a:lnTo>
                <a:lnTo>
                  <a:pt x="15467" y="21600"/>
                </a:lnTo>
                <a:lnTo>
                  <a:pt x="15467" y="14471"/>
                </a:lnTo>
                <a:lnTo>
                  <a:pt x="0" y="14471"/>
                </a:lnTo>
                <a:lnTo>
                  <a:pt x="2085" y="10800"/>
                </a:lnTo>
                <a:lnTo>
                  <a:pt x="0" y="712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7"/>
          <p:cNvSpPr/>
          <p:nvPr/>
        </p:nvSpPr>
        <p:spPr>
          <a:xfrm flipH="1">
            <a:off x="6116760" y="5391000"/>
            <a:ext cx="760320" cy="486000"/>
          </a:xfrm>
          <a:custGeom>
            <a:avLst/>
            <a:gdLst>
              <a:gd name="textAreaLeft" fmla="*/ 73080 w 760320"/>
              <a:gd name="textAreaRight" fmla="*/ 687240 w 760320"/>
              <a:gd name="textAreaTop" fmla="*/ 160200 h 486000"/>
              <a:gd name="textAreaBottom" fmla="*/ 325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7129"/>
                </a:moveTo>
                <a:lnTo>
                  <a:pt x="15467" y="7129"/>
                </a:lnTo>
                <a:lnTo>
                  <a:pt x="15467" y="0"/>
                </a:lnTo>
                <a:lnTo>
                  <a:pt x="21600" y="10800"/>
                </a:lnTo>
                <a:lnTo>
                  <a:pt x="15467" y="21600"/>
                </a:lnTo>
                <a:lnTo>
                  <a:pt x="15467" y="14471"/>
                </a:lnTo>
                <a:lnTo>
                  <a:pt x="0" y="14471"/>
                </a:lnTo>
                <a:lnTo>
                  <a:pt x="2085" y="10800"/>
                </a:lnTo>
                <a:lnTo>
                  <a:pt x="0" y="7129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"/>
          <p:cNvSpPr/>
          <p:nvPr/>
        </p:nvSpPr>
        <p:spPr>
          <a:xfrm rot="5400000">
            <a:off x="7153560" y="1977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 rot="5400000">
            <a:off x="7153560" y="442656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0"/>
          <p:cNvSpPr/>
          <p:nvPr/>
        </p:nvSpPr>
        <p:spPr>
          <a:xfrm flipV="1" rot="16200000">
            <a:off x="1086120" y="194544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1"/>
          <p:cNvSpPr/>
          <p:nvPr/>
        </p:nvSpPr>
        <p:spPr>
          <a:xfrm flipV="1" rot="16200000">
            <a:off x="1086120" y="439488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23360" y="642960"/>
            <a:ext cx="87202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«Образовательный процесс в школ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это кровеносная систе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а  урок – это биение серд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Конаржевский В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Урок – это клеточка педагогическ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 нём, как солнце в капле воды, отражаются все его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Если не вся, то значительная часть педагогики концентрируется в урок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ткин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0" descr="C:\Users\Булатова\Pictures\vopros-otvet.jpg"/>
          <p:cNvPicPr/>
          <p:nvPr/>
        </p:nvPicPr>
        <p:blipFill>
          <a:blip r:embed="rId1"/>
          <a:stretch/>
        </p:blipFill>
        <p:spPr>
          <a:xfrm>
            <a:off x="0" y="2637000"/>
            <a:ext cx="1512720" cy="1858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06632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ой урок по вашему мнению можно считать эффектив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т чего зависит эффективность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школаие 011"/>
          <p:cNvPicPr/>
          <p:nvPr/>
        </p:nvPicPr>
        <p:blipFill>
          <a:blip r:embed="rId2"/>
          <a:stretch/>
        </p:blipFill>
        <p:spPr>
          <a:xfrm>
            <a:off x="2286000" y="2666880"/>
            <a:ext cx="518148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1"/>
          <p:cNvGrpSpPr/>
          <p:nvPr/>
        </p:nvGrpSpPr>
        <p:grpSpPr>
          <a:xfrm>
            <a:off x="3348000" y="0"/>
            <a:ext cx="5795640" cy="6675120"/>
            <a:chOff x="3348000" y="0"/>
            <a:chExt cx="5795640" cy="6675120"/>
          </a:xfrm>
        </p:grpSpPr>
        <p:sp>
          <p:nvSpPr>
            <p:cNvPr id="291" name="Rectangle 5"/>
            <p:cNvSpPr/>
            <p:nvPr/>
          </p:nvSpPr>
          <p:spPr>
            <a:xfrm>
              <a:off x="3467880" y="0"/>
              <a:ext cx="5675760" cy="667512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Text Box 6"/>
            <p:cNvGrpSpPr/>
            <p:nvPr/>
          </p:nvGrpSpPr>
          <p:grpSpPr>
            <a:xfrm>
              <a:off x="3348000" y="121680"/>
              <a:ext cx="5772600" cy="6382080"/>
              <a:chOff x="3348000" y="121680"/>
              <a:chExt cx="5772600" cy="6382080"/>
            </a:xfrm>
          </p:grpSpPr>
          <p:pic>
            <p:nvPicPr>
              <p:cNvPr id="293" name="Text Box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121680"/>
                <a:ext cx="5772600" cy="638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0"/>
              <p:cNvSpPr/>
              <p:nvPr/>
            </p:nvSpPr>
            <p:spPr>
              <a:xfrm>
                <a:off x="3469320" y="183600"/>
                <a:ext cx="5596560" cy="62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Конкретность поставленной цели и задач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Создание ситуации успех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Обучение через открыти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Демократичность и открыт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Результа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Качество учебного материал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Формирование ключевых компетенци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Способность ученика проектировать свою деятельно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Разнообразие  методов, приёмо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Наличие дискуссий, характеризующихся различными  точками зрения по изучаемым вопросам, сопоставлением их, поиском за счет обсуждения истинной точки зрения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Творчеств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Педагог управляет проблемно – поисковой, творческой  или исследовательской деятельностью учащегося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AutoShape 8"/>
          <p:cNvSpPr/>
          <p:nvPr/>
        </p:nvSpPr>
        <p:spPr>
          <a:xfrm>
            <a:off x="838080" y="380880"/>
            <a:ext cx="838440" cy="60199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6019920"/>
              <a:gd name="textAreaBottom" fmla="*/ 5979240 h 6019920"/>
            </a:gdLst>
            <a:ahLst/>
            <a:rect l="textAreaLeft" t="textAreaTop" r="textAreaRight" b="textAreaBottom"/>
            <a:pathLst>
              <a:path w="21600" h="155029">
                <a:moveTo>
                  <a:pt x="3600" y="0"/>
                </a:moveTo>
                <a:arcTo wR="3600" hR="3600" stAng="16200000" swAng="-5400000"/>
                <a:lnTo>
                  <a:pt x="0" y="151429"/>
                </a:lnTo>
                <a:arcTo wR="3600" hR="3600" stAng="10800000" swAng="-5400000"/>
                <a:lnTo>
                  <a:pt x="18000" y="155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bdec"/>
              </a:gs>
              <a:gs pos="100000">
                <a:srgbClr val="e7edfa"/>
              </a:gs>
            </a:gsLst>
            <a:lin ang="16200000"/>
          </a:gradFill>
          <a:ln w="9360">
            <a:solidFill>
              <a:srgbClr val="3560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1905120" y="457200"/>
            <a:ext cx="1295280" cy="5943600"/>
          </a:xfrm>
          <a:prstGeom prst="rightArrowCallout">
            <a:avLst>
              <a:gd name="adj1" fmla="val 57109"/>
              <a:gd name="adj2" fmla="val 105645"/>
              <a:gd name="adj3" fmla="val 16667"/>
              <a:gd name="adj4" fmla="val 6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овременный урок –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овременный учитель...</a:t>
            </a:r>
            <a:endParaRPr b="1" lang="en-US" sz="4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2352600" y="2919240"/>
            <a:ext cx="3651480" cy="338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4920" y="2060640"/>
            <a:ext cx="89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етливый, крикли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ясняет, ругает, жд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окончится эта пыт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дола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59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читель – какой он?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нквейн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301" name="Picture 2" descr="C:\Users\Булатова\Pictures\Портрет учителя\prepod_oryot.jpg"/>
          <p:cNvPicPr/>
          <p:nvPr/>
        </p:nvPicPr>
        <p:blipFill>
          <a:blip r:embed="rId1"/>
          <a:stretch/>
        </p:blipFill>
        <p:spPr>
          <a:xfrm>
            <a:off x="6443640" y="907920"/>
            <a:ext cx="2529000" cy="237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2"/>
          <a:stretch/>
        </p:blipFill>
        <p:spPr>
          <a:xfrm>
            <a:off x="6215040" y="50004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29600" cy="16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читель – какой он?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нквейн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13840" y="1856880"/>
            <a:ext cx="6913800" cy="32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ч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Добрый, знающ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чит, воспитывает, помог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Настоящий дру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фессио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читель – какой он?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нквейн</a:t>
            </a:r>
            <a:endParaRPr b="1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268280"/>
            <a:ext cx="62150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чи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Душевный, откры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Любит, объясняет, слуш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ного идей - мало врем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и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Гимн  уроку</a:t>
            </a:r>
            <a:endParaRPr b="1" lang="en-US" sz="5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рок жив!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екоторых  учителей он распускается прямо на глазах, как бутон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о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игр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се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цве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  Как захватывающе интересное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зрелищ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тоящего хорошего урока!  Невольно становишься защитником  этого маленького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чуда-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лящегося всего 45 минут.  Он ещё не исчерпал своих возможностей, и педагоги  далеко не все их открыли для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4"/>
          <p:cNvSpPr/>
          <p:nvPr/>
        </p:nvSpPr>
        <p:spPr>
          <a:xfrm>
            <a:off x="539640" y="404640"/>
            <a:ext cx="8064720" cy="2592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се дети мог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пешно учить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ес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AutoShape 5" descr=""/>
          <p:cNvPicPr/>
          <p:nvPr/>
        </p:nvPicPr>
        <p:blipFill>
          <a:blip r:embed="rId1"/>
          <a:stretch/>
        </p:blipFill>
        <p:spPr>
          <a:xfrm>
            <a:off x="1341360" y="3754440"/>
            <a:ext cx="6454800" cy="2055960"/>
          </a:xfrm>
          <a:prstGeom prst="rect">
            <a:avLst/>
          </a:prstGeom>
          <a:ln w="0">
            <a:noFill/>
          </a:ln>
        </p:spPr>
      </p:pic>
      <p:grpSp>
        <p:nvGrpSpPr>
          <p:cNvPr id="311" name="AutoShape 6"/>
          <p:cNvGrpSpPr/>
          <p:nvPr/>
        </p:nvGrpSpPr>
        <p:grpSpPr>
          <a:xfrm>
            <a:off x="4297320" y="2962440"/>
            <a:ext cx="615960" cy="969840"/>
            <a:chOff x="4297320" y="2962440"/>
            <a:chExt cx="615960" cy="969840"/>
          </a:xfrm>
        </p:grpSpPr>
        <p:pic>
          <p:nvPicPr>
            <p:cNvPr id="312" name="AutoShape 6" descr=""/>
            <p:cNvPicPr/>
            <p:nvPr/>
          </p:nvPicPr>
          <p:blipFill>
            <a:blip r:embed="rId2"/>
            <a:stretch/>
          </p:blipFill>
          <p:spPr>
            <a:xfrm>
              <a:off x="4297320" y="2962440"/>
              <a:ext cx="6159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5"/>
            <p:cNvSpPr/>
            <p:nvPr/>
          </p:nvSpPr>
          <p:spPr>
            <a:xfrm>
              <a:off x="4481640" y="2997360"/>
              <a:ext cx="253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22"/>
          <p:cNvPicPr/>
          <p:nvPr/>
        </p:nvPicPr>
        <p:blipFill>
          <a:blip r:embed="rId3"/>
          <a:stretch/>
        </p:blipFill>
        <p:spPr>
          <a:xfrm>
            <a:off x="7020000" y="907920"/>
            <a:ext cx="1442880" cy="157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-6480" y="5425920"/>
            <a:ext cx="1438560" cy="1438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1566720" y="4925880"/>
            <a:ext cx="1438560" cy="1438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3"/>
          <a:stretch/>
        </p:blipFill>
        <p:spPr>
          <a:xfrm>
            <a:off x="3139920" y="4065480"/>
            <a:ext cx="1438560" cy="1440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4"/>
          <a:stretch/>
        </p:blipFill>
        <p:spPr>
          <a:xfrm>
            <a:off x="4853160" y="5638680"/>
            <a:ext cx="1438200" cy="1438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5"/>
          <a:stretch/>
        </p:blipFill>
        <p:spPr>
          <a:xfrm>
            <a:off x="3992400" y="5065560"/>
            <a:ext cx="1444680" cy="1371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"/>
          <p:cNvPicPr/>
          <p:nvPr/>
        </p:nvPicPr>
        <p:blipFill>
          <a:blip r:embed="rId6"/>
          <a:stretch/>
        </p:blipFill>
        <p:spPr>
          <a:xfrm>
            <a:off x="6278400" y="5138640"/>
            <a:ext cx="1444680" cy="1438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7"/>
          <a:stretch/>
        </p:blipFill>
        <p:spPr>
          <a:xfrm>
            <a:off x="7139160" y="4565520"/>
            <a:ext cx="1236600" cy="1438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"/>
          <p:cNvPicPr/>
          <p:nvPr/>
        </p:nvPicPr>
        <p:blipFill>
          <a:blip r:embed="rId8"/>
          <a:stretch/>
        </p:blipFill>
        <p:spPr>
          <a:xfrm>
            <a:off x="2852640" y="5138640"/>
            <a:ext cx="1317600" cy="1438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"/>
          <p:cNvPicPr/>
          <p:nvPr/>
        </p:nvPicPr>
        <p:blipFill>
          <a:blip r:embed="rId9"/>
          <a:stretch/>
        </p:blipFill>
        <p:spPr>
          <a:xfrm>
            <a:off x="5132520" y="3913200"/>
            <a:ext cx="1439640" cy="1444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"/>
          <p:cNvPicPr/>
          <p:nvPr/>
        </p:nvPicPr>
        <p:blipFill>
          <a:blip r:embed="rId10"/>
          <a:stretch/>
        </p:blipFill>
        <p:spPr>
          <a:xfrm>
            <a:off x="920880" y="3925800"/>
            <a:ext cx="1444320" cy="143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11"/>
          <a:stretch/>
        </p:blipFill>
        <p:spPr>
          <a:xfrm>
            <a:off x="4065480" y="35654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"/>
          <p:cNvPicPr/>
          <p:nvPr/>
        </p:nvPicPr>
        <p:blipFill>
          <a:blip r:embed="rId12"/>
          <a:stretch/>
        </p:blipFill>
        <p:spPr>
          <a:xfrm>
            <a:off x="2419200" y="3492360"/>
            <a:ext cx="1446480" cy="1444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4" descr=""/>
          <p:cNvPicPr/>
          <p:nvPr/>
        </p:nvPicPr>
        <p:blipFill>
          <a:blip r:embed="rId13"/>
          <a:stretch/>
        </p:blipFill>
        <p:spPr>
          <a:xfrm>
            <a:off x="6066000" y="3992400"/>
            <a:ext cx="1438200" cy="144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"/>
          <p:cNvPicPr/>
          <p:nvPr/>
        </p:nvPicPr>
        <p:blipFill>
          <a:blip r:embed="rId14"/>
          <a:stretch/>
        </p:blipFill>
        <p:spPr>
          <a:xfrm>
            <a:off x="-219240" y="4138560"/>
            <a:ext cx="1438560" cy="144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6" descr=""/>
          <p:cNvPicPr/>
          <p:nvPr/>
        </p:nvPicPr>
        <p:blipFill>
          <a:blip r:embed="rId15"/>
          <a:stretch/>
        </p:blipFill>
        <p:spPr>
          <a:xfrm>
            <a:off x="8150400" y="4565520"/>
            <a:ext cx="1000080" cy="1438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7" descr=""/>
          <p:cNvPicPr/>
          <p:nvPr/>
        </p:nvPicPr>
        <p:blipFill>
          <a:blip r:embed="rId16"/>
          <a:stretch/>
        </p:blipFill>
        <p:spPr>
          <a:xfrm>
            <a:off x="3925800" y="4280040"/>
            <a:ext cx="1438200" cy="1444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8" descr=""/>
          <p:cNvPicPr/>
          <p:nvPr/>
        </p:nvPicPr>
        <p:blipFill>
          <a:blip r:embed="rId17"/>
          <a:stretch/>
        </p:blipFill>
        <p:spPr>
          <a:xfrm>
            <a:off x="1920960" y="4280040"/>
            <a:ext cx="1444680" cy="14443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9" descr=""/>
          <p:cNvPicPr/>
          <p:nvPr/>
        </p:nvPicPr>
        <p:blipFill>
          <a:blip r:embed="rId18"/>
          <a:stretch/>
        </p:blipFill>
        <p:spPr>
          <a:xfrm>
            <a:off x="5711760" y="4992840"/>
            <a:ext cx="1438200" cy="1444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0" descr=""/>
          <p:cNvPicPr/>
          <p:nvPr/>
        </p:nvPicPr>
        <p:blipFill>
          <a:blip r:embed="rId19"/>
          <a:stretch/>
        </p:blipFill>
        <p:spPr>
          <a:xfrm>
            <a:off x="3492360" y="5425920"/>
            <a:ext cx="1414440" cy="1438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1" descr=""/>
          <p:cNvPicPr/>
          <p:nvPr/>
        </p:nvPicPr>
        <p:blipFill>
          <a:blip r:embed="rId20"/>
          <a:stretch/>
        </p:blipFill>
        <p:spPr>
          <a:xfrm>
            <a:off x="7278840" y="5205240"/>
            <a:ext cx="1298520" cy="1444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2" descr=""/>
          <p:cNvPicPr/>
          <p:nvPr/>
        </p:nvPicPr>
        <p:blipFill>
          <a:blip r:embed="rId21"/>
          <a:stretch/>
        </p:blipFill>
        <p:spPr>
          <a:xfrm>
            <a:off x="1779480" y="5992920"/>
            <a:ext cx="1440000" cy="1090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3" descr=""/>
          <p:cNvPicPr/>
          <p:nvPr/>
        </p:nvPicPr>
        <p:blipFill>
          <a:blip r:embed="rId22"/>
          <a:stretch/>
        </p:blipFill>
        <p:spPr>
          <a:xfrm>
            <a:off x="7997760" y="5425920"/>
            <a:ext cx="1438200" cy="14385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2" descr=""/>
          <p:cNvPicPr/>
          <p:nvPr/>
        </p:nvPicPr>
        <p:blipFill>
          <a:blip r:embed="rId23"/>
          <a:stretch/>
        </p:blipFill>
        <p:spPr>
          <a:xfrm>
            <a:off x="6924600" y="5772240"/>
            <a:ext cx="1438200" cy="1092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0" descr=""/>
          <p:cNvPicPr/>
          <p:nvPr/>
        </p:nvPicPr>
        <p:blipFill>
          <a:blip r:embed="rId24"/>
          <a:stretch/>
        </p:blipFill>
        <p:spPr>
          <a:xfrm>
            <a:off x="4705200" y="4780080"/>
            <a:ext cx="1414440" cy="1444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"/>
          <p:cNvPicPr/>
          <p:nvPr/>
        </p:nvPicPr>
        <p:blipFill>
          <a:blip r:embed="rId25"/>
          <a:stretch/>
        </p:blipFill>
        <p:spPr>
          <a:xfrm>
            <a:off x="5924520" y="5711760"/>
            <a:ext cx="1440000" cy="1438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" descr=""/>
          <p:cNvPicPr/>
          <p:nvPr/>
        </p:nvPicPr>
        <p:blipFill>
          <a:blip r:embed="rId26"/>
          <a:stretch/>
        </p:blipFill>
        <p:spPr>
          <a:xfrm>
            <a:off x="853920" y="5638680"/>
            <a:ext cx="1408320" cy="14385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8"/>
          <p:cNvSpPr/>
          <p:nvPr/>
        </p:nvSpPr>
        <p:spPr>
          <a:xfrm>
            <a:off x="2556000" y="174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Cambria"/>
              </a:rPr>
              <a:t>УСПЕХОВ В РАБОТ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99680" y="1071360"/>
            <a:ext cx="818676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же в школе дети должны получить возможность раскрыть свои способности, подготовиться к жизни в высокотехнологичном конкурентном мир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. Должна быть выстроена разветвленная система поиска и поддержки талантливых детей, а также их сопровождения в течение всего периода становления лич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. Ключевая роль в школе принадлежит учителю. Необходимо разработать  систему моральных и материальных стимулов для сохранения в школах лучших педагогов и постоянного повышения их квалифик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. Сам облик школ, как по форме, так и по содержанию, должен значительно измениться.  Находиться в школе ребенку должно быть комфортно: и психологически и физичес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. Сегодняшняя статистика здоровья школьников просто ужасающая. К каждому ученику должен быть применен индивидуальный подход – минимизирующий риски для здоровья в процессе обуч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642960"/>
            <a:ext cx="8286840" cy="53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– это  динамическая вариативная форма целенаправленного взаимодействия (деятельности и общения) учителя и учащихся, включающая содержание, формы, методы и средства обучения и систематически применяемая для решения задач образования, воспитания, обучения  и развития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3880" y="571680"/>
            <a:ext cx="70866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ОРМУЛА 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«У»:</a:t>
            </a:r>
            <a:br>
              <a:rPr sz="4000"/>
            </a:br>
            <a:endParaRPr b="1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64720" cy="44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Arial"/>
              </a:rPr>
              <a:t>У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ЧЕБА</a:t>
            </a:r>
            <a:r>
              <a:rPr b="1" lang="ru-RU" sz="4400" spc="-1" strike="noStrike">
                <a:solidFill>
                  <a:srgbClr val="ff8119"/>
                </a:solidFill>
                <a:latin typeface="Arial"/>
              </a:rPr>
              <a:t> 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8119"/>
                </a:solidFill>
                <a:uFillTx/>
                <a:latin typeface="Arial"/>
              </a:rPr>
              <a:t>У</a:t>
            </a:r>
            <a:r>
              <a:rPr b="1" lang="ru-RU" sz="4400" spc="-1" strike="noStrike">
                <a:solidFill>
                  <a:srgbClr val="ff8119"/>
                </a:solidFill>
                <a:latin typeface="Arial"/>
              </a:rPr>
              <a:t>ДИВЛЕНИЕ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c767c"/>
                </a:solidFill>
                <a:uFillTx/>
                <a:latin typeface="Arial"/>
              </a:rPr>
              <a:t>У</a:t>
            </a:r>
            <a:r>
              <a:rPr b="1" lang="ru-RU" sz="4400" spc="-1" strike="noStrike">
                <a:solidFill>
                  <a:srgbClr val="ec767c"/>
                </a:solidFill>
                <a:latin typeface="Arial"/>
              </a:rPr>
              <a:t>ДОВОЛЬСТВИЕ</a:t>
            </a:r>
            <a:r>
              <a:rPr b="1" lang="ru-RU" sz="4400" spc="-1" strike="noStrike">
                <a:solidFill>
                  <a:srgbClr val="ff8119"/>
                </a:solidFill>
                <a:latin typeface="Arial"/>
              </a:rPr>
              <a:t> +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У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ВЛЕЧЕНИЕ</a:t>
            </a:r>
            <a:r>
              <a:rPr b="1" lang="ru-RU" sz="4400" spc="-1" strike="noStrike">
                <a:solidFill>
                  <a:srgbClr val="ff811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          </a:t>
            </a:r>
            <a:r>
              <a:rPr b="1" lang="ru-RU" sz="6000" spc="-1" strike="noStrike" u="sng">
                <a:solidFill>
                  <a:srgbClr val="c00000"/>
                </a:solidFill>
                <a:uFillTx/>
                <a:latin typeface="Arial"/>
              </a:rPr>
              <a:t>УСПЕХ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699320" cy="131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4680" y="1196640"/>
            <a:ext cx="9144000" cy="563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читывает особенности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читывает свои особ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облюдает правила, обеспечивающие успешное проведение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пределить место урока в теме, темы в годовом кур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ыделить общую задачу ур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осмотреть учебную программу, учебную литера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ыделить главную идею ур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тобрать содержание урока, методы, способы изучения, закрепления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етко и ясно ставить задачи перед учениками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 каждого учителя свои методические подходы, методические приемы, которые позволяют ему успешно проводить 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333360" y="476280"/>
            <a:ext cx="8674200" cy="588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пути совершенствования урока</a:t>
            </a:r>
            <a:endParaRPr b="1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целенаправленности деятельности учителя 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познавательной самостоятельности и творческой актив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изация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нсификация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межпредметных и внутрипредметных 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142920" y="22860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Здоровьесберегающие мину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2" descr="C:\Users\школа\Desktop\SAM_0155.JPG"/>
          <p:cNvPicPr/>
          <p:nvPr/>
        </p:nvPicPr>
        <p:blipFill>
          <a:blip r:embed="rId1"/>
          <a:stretch/>
        </p:blipFill>
        <p:spPr>
          <a:xfrm>
            <a:off x="1619280" y="3357720"/>
            <a:ext cx="3240000" cy="27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8:20:19Z</dcterms:created>
  <dc:creator>natali</dc:creator>
  <dc:description/>
  <dc:language>en-US</dc:language>
  <cp:lastModifiedBy>школа</cp:lastModifiedBy>
  <dcterms:modified xsi:type="dcterms:W3CDTF">2014-12-09T05:17:42Z</dcterms:modified>
  <cp:revision>182</cp:revision>
  <dc:subject/>
  <dc:title>Личностно ориентированный подход   при подготовке учащихся  к ЕГЭ по математике</dc:title>
</cp:coreProperties>
</file>